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DAD-458E-491C-9FDA-276F153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B7E-B111-43BA-B625-B8E884F9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FF8-76E6-4830-8EA1-978229AC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488-A060-4848-939F-1FB00B51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8688-270A-4C96-BB01-C1E0D29E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4A9D-757A-40DF-9062-D206E903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16C-C06E-4E1D-BDF0-37D60A1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797A-650C-4C29-BB03-C8C257E9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84C2-6E0A-4746-BC55-4F4767E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758-73A9-4E19-A11E-AC943193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61E3-A545-407B-9A5C-24BBF42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E47-653C-4F93-BA82-7F7955D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C53-1BE7-4238-813A-E05982B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C7E-034D-4D4A-99B4-2D89AAC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68C8-CC89-4CB6-B821-FF62D2D4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EEB-FB07-41F3-9F04-48EC1B3E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8EA-BD7A-4272-A582-CB0072AE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570-4C85-4916-9DE3-1F203EF4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F9B-601D-4E31-BB11-DAC5FC2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BFF-F714-4460-AE90-0EF058C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41E-03B5-4B60-A1FB-53295D1A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B36-AB40-4CAB-9BD0-0480C94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43C-2D1F-45A8-B5CC-6F08E1F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F2C-56EA-4AD0-B090-66AB7A2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0b5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4d4d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4d4d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4d4d6">
                    <a:alpha val="0"/>
                  </a:srgbClr>
                </a:gs>
                <a:gs pos="100000">
                  <a:srgbClr val="aeae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9d9db"/>
                </a:gs>
                <a:gs pos="100000">
                  <a:srgbClr val="d4d4d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9d9db"/>
                </a:gs>
                <a:gs pos="100000">
                  <a:srgbClr val="d4d4d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4d4d6">
                    <a:alpha val="0"/>
                  </a:srgbClr>
                </a:gs>
                <a:gs pos="100000">
                  <a:srgbClr val="aeae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9d9db"/>
                </a:gs>
                <a:gs pos="100000">
                  <a:srgbClr val="d4d4d6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A63-4F91-43B2-B23E-7C40EDBE33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37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0b5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4d4d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4d4d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4d4d6">
                    <a:alpha val="0"/>
                  </a:srgbClr>
                </a:gs>
                <a:gs pos="100000">
                  <a:srgbClr val="aeae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4d4d6">
                    <a:alpha val="0"/>
                  </a:srgbClr>
                </a:gs>
                <a:gs pos="100000">
                  <a:srgbClr val="aeae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9d9db"/>
                </a:gs>
                <a:gs pos="100000">
                  <a:srgbClr val="d4d4d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9d9db"/>
                </a:gs>
                <a:gs pos="100000">
                  <a:srgbClr val="d4d4d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37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8078-DCE2-47B0-A800-EE04A88C972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 u="sng">
                <a:solidFill>
                  <a:srgbClr val="5a6378"/>
                </a:solidFill>
                <a:uFillTx/>
                <a:latin typeface="Arial Black"/>
              </a:rPr>
              <a:t>PREECLAMPSIA &amp; ECLAMPSIA</a:t>
            </a:r>
            <a:endParaRPr b="1" lang="en-US" sz="4000" spc="-1" strike="noStrike">
              <a:solidFill>
                <a:srgbClr val="5a6378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 pre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symptom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gastric and right abdomin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s of pre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dependent oe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sk refl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le cl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l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91440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124080"/>
            <a:ext cx="89154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lysis by dip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s urin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blood coun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s&amp;haematocri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functio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c acid,s.creatinine,ure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function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gulation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s(growth parameters,fetal size,A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preeclamp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recognition of th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ness of the serious nature of th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agreed guidelines(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tim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natal follow up and counselling for future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8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Delivery is the only cure for preeclamp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72388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ld pre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blood pressure 90-95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proteinurea,normal heamat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iochemical parameters,no fe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e.Deliver at t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severe preeclampsia (BP&gt;160/110MMH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e protein 5grams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haematological and biochem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,abnormal fetal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blood pressure(aim to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 90-95mm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5409720" y="3429000"/>
            <a:ext cx="228600" cy="763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5a6378"/>
                </a:solidFill>
                <a:uFillTx/>
                <a:latin typeface="Arial Black"/>
              </a:rPr>
              <a:t>Drugs</a:t>
            </a:r>
            <a:r>
              <a:rPr b="1" lang="en-US" sz="4400" spc="-1" strike="noStrike" u="sng">
                <a:solidFill>
                  <a:srgbClr val="5a6378"/>
                </a:solidFill>
                <a:uFillTx/>
                <a:latin typeface="Arial Black"/>
              </a:rPr>
              <a:t>:-</a:t>
            </a: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457200" y="1752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914400"/>
          <a:ext cx="8839440" cy="5945040"/>
        </p:xfrm>
        <a:graphic>
          <a:graphicData uri="http://schemas.openxmlformats.org/drawingml/2006/table">
            <a:tbl>
              <a:tblPr/>
              <a:tblGrid>
                <a:gridCol w="1768680"/>
                <a:gridCol w="1768320"/>
                <a:gridCol w="1765440"/>
                <a:gridCol w="1768320"/>
                <a:gridCol w="1768680"/>
              </a:tblGrid>
              <a:tr h="8373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 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 do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4000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r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onset 24hou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alaz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vasodila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…10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pi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of emerg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&amp;alpha block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…40mg every 10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mi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blo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Fail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asth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.chann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 sub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ach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Delivery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patient to tertiary center if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perm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etus is preterm give mother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2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xamethasone im twice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2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art to enhance lung mat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c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or vag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rgometrine in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33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ticoagul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Complications of preeclampsia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AMP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ELP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o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U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io plac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hylaxis(aspirin,antioxid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Eclampsia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ife threatening complications of preeclampsia,defined as tonic,clonic convulsions in a pregnant woman in the absence of any other neurological or           metabolic causes.It is an  obstetric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occurs antenatal,intrapartum,postpar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y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24-48h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out by a tea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he patient on her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ear airway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tion,mouth gag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iv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fits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.sul,diazepa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BP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lazine,labetalo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 &amp; output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s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,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ting profile,cross match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patient and her f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tabiliz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controlled,n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ulsions,hypoxia controlled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Mag.sulphate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of choice in ec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iv,im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4-6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lus dose,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1-2g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intenance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cerebral vasodilator and menbrane stab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dose lead to respiratory depression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rdiac ar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patien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es,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urine outpu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dote cal.gluconate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10ml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378"/>
                </a:solidFill>
                <a:latin typeface="Arial Black"/>
              </a:rPr>
              <a:t>Objective</a:t>
            </a:r>
            <a:r>
              <a:rPr b="1" lang="en-US" sz="4400" spc="-1" strike="noStrike">
                <a:solidFill>
                  <a:srgbClr val="990033"/>
                </a:solidFill>
                <a:latin typeface="Arial Black"/>
              </a:rPr>
              <a:t>:-</a:t>
            </a: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nique diseas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regnant woman in the second half of pregnancy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s significant maternal &amp; fetal morbidity and mort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riteria for diagnosing preeclampsi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 &amp; proteinuria, in eclampsia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ic and clonic convul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e cure of preeclamsia &amp; eclampsia is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385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5a6378"/>
                </a:solidFill>
                <a:uFillTx/>
                <a:latin typeface="Arial Black"/>
              </a:rPr>
              <a:t>Defenition of preeclampsia</a:t>
            </a: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 Black"/>
              </a:rPr>
              <a:t>:-</a:t>
            </a:r>
            <a:endParaRPr b="1" lang="en-US" sz="36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f hypertension of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140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Hg recorded on two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asions at least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s apart and in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at least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 protein in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s collection of urine arrising de no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990033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ek gestation in a previ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otensive women and re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tly by the sixth postpartum we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378"/>
                </a:solidFill>
                <a:latin typeface="Arial Black"/>
              </a:rPr>
              <a:t>Classification of hypertensive </a:t>
            </a:r>
            <a:br>
              <a:rPr sz="4000"/>
            </a:br>
            <a:r>
              <a:rPr b="1" lang="en-US" sz="4000" spc="-1" strike="noStrike">
                <a:solidFill>
                  <a:srgbClr val="5a6378"/>
                </a:solidFill>
                <a:latin typeface="Arial Black"/>
              </a:rPr>
              <a:t>disorders of pregnancy</a:t>
            </a:r>
            <a:endParaRPr b="1" lang="en-US" sz="40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eclampsi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hypertension with superim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ational or transient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a6378"/>
                </a:solidFill>
                <a:uFillTx/>
                <a:latin typeface="Arial Black"/>
              </a:rPr>
              <a:t>Aetiology of preeclampsia</a:t>
            </a:r>
            <a:r>
              <a:rPr b="1" lang="en-US" sz="4400" spc="-1" strike="noStrike" u="sng">
                <a:solidFill>
                  <a:srgbClr val="990033"/>
                </a:solidFill>
                <a:uFillTx/>
                <a:latin typeface="Arial Black"/>
              </a:rPr>
              <a:t>:-</a:t>
            </a:r>
            <a:endParaRPr b="1" lang="en-US" sz="44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immunological response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cient trophoplast invasion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perfused placenta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ng factors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endothelial cell activation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manifestations of the disease</a:t>
            </a:r>
            <a:r>
              <a:rPr b="0" lang="en-US" sz="3200" spc="-1" strike="noStrike">
                <a:solidFill>
                  <a:srgbClr val="55454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572000" y="2438280"/>
            <a:ext cx="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572000" y="2971800"/>
            <a:ext cx="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4572000" y="3581280"/>
            <a:ext cx="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572000" y="4114800"/>
            <a:ext cx="0" cy="30492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572000" y="4724280"/>
            <a:ext cx="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4572000" y="5334120"/>
            <a:ext cx="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3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regna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in primigr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3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d increase in first degree relatives of affected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Factors for preeclamp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existing hyertension or renal diseas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existing vascular diseas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immune vasculit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5a6378"/>
                </a:solidFill>
                <a:uFillTx/>
                <a:latin typeface="Arial Black"/>
              </a:rPr>
              <a:t>Pathophisiology</a:t>
            </a:r>
            <a:r>
              <a:rPr b="1" lang="en-US" sz="4000" spc="-1" strike="noStrike" u="sng">
                <a:solidFill>
                  <a:srgbClr val="990033"/>
                </a:solidFill>
                <a:uFillTx/>
                <a:latin typeface="Arial Black"/>
              </a:rPr>
              <a:t>:-</a:t>
            </a:r>
            <a:br>
              <a:rPr sz="4000"/>
            </a:br>
            <a:endParaRPr b="1" lang="en-US" sz="4000" spc="-1" strike="noStrike">
              <a:solidFill>
                <a:srgbClr val="5a6378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ive trophoplast invasion     hypoperfused placenta     release factor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facto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kine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scular endotheli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ospasm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al cell damage      oedema,                    hemo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s,glomeruloendotheliosis          proteinuria,reduced uric excretion and oligo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029200" y="19051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1981080" y="2362320"/>
            <a:ext cx="3049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286000" y="28195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2438280" y="388620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715000" y="5334120"/>
            <a:ext cx="9144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5345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,subendothelial fibrin d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ed liver,hemorrhage,infarction,liver rupture and epigastric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mbocytopenia,DIC,HELLP syndr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ntal vasospasm      placental infarction,placental abruptio&amp;  uteroplacental perfusion      IUG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68b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S vasospasm&amp;oedem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eadache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sympton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rred vision,spots,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7543800" y="685800"/>
            <a:ext cx="9144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905120" y="2362320"/>
            <a:ext cx="53316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724280" y="3429000"/>
            <a:ext cx="6858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48520" y="3809880"/>
            <a:ext cx="0" cy="53352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590920" y="4419720"/>
            <a:ext cx="53316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715000" y="5029200"/>
            <a:ext cx="8380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52280" y="5867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reflexia and convul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55:31Z</dcterms:created>
  <dc:creator>MHE</dc:creator>
  <dc:description/>
  <dc:language>en-US</dc:language>
  <cp:lastModifiedBy>Grace</cp:lastModifiedBy>
  <dcterms:modified xsi:type="dcterms:W3CDTF">2019-01-22T19:03:10Z</dcterms:modified>
  <cp:revision>26</cp:revision>
  <dc:subject/>
  <dc:title>Preeclampsia &amp; eclampsia</dc:title>
</cp:coreProperties>
</file>